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D45-41A6-41FF-B17D-9EAA11A5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8D8-C022-45FE-A2C8-B337E609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C7B-1337-40CC-B778-43714476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2DC-6C37-4261-B444-FE35F726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6ABD-CFF9-4399-9BEC-1F4FAE93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C2FB-824A-406C-8D90-CA3F70CC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83C1-2808-461E-AD0A-563BF3E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F2E2-8E0E-4733-82D0-DD0B05CE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164A-D605-4634-95D0-4612AE12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4011-5DC8-4AA7-9306-6394B7D5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D454-93A6-4818-8647-B762666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B60-CD27-4C50-9BA1-05796095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3EAC-59FA-4AD4-A7C2-D3D5794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F36A-C02D-41EE-AA38-BDA62436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F6D5-C656-4473-8525-83B09521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615B-939A-4D44-96FD-CC78C47A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EEF5-3A32-450D-8FF9-1506D1E2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E5D-E6D9-400E-B19F-FD693D7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F03-B512-4215-B163-DCAAA56F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8B7-1CC9-4288-BF79-44AD76D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DA9-527A-4B32-9A15-F25DDF20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509-6DD7-4DEE-B5DA-5A7352B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A8C-B368-4696-A13E-A7D99BBA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9AB-2F43-4D9F-8B2D-16CDCA23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47AC-6DFF-430C-AD69-0E6B01327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05B9-0992-47FB-9CE1-60D337076CF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808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duce an English Literature GCSE coursework piece on post 1914 po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Writing Task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War Poetry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all of your notes on the war poetry that you have 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two poems that you feel convey the strongest messages relating to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3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a mind-map or spidergram, note how the poems convey their mess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e any similarities or differ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your diagram to make a list of points that explain how effectively the poems convey their mess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5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ow have your essay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ursework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and contrast how any two poems that you have studied convey the experience of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ssible Structur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raph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, author and content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raph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tude of the poets to the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raphs 3-5  Analysis of the techniques u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raph 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um up, how successfu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oems were in convey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9:00:20Z</dcterms:created>
  <dc:creator>mahonls</dc:creator>
  <dc:description/>
  <dc:language>en-US</dc:language>
  <cp:lastModifiedBy>mahonls</cp:lastModifiedBy>
  <dcterms:modified xsi:type="dcterms:W3CDTF">2006-07-06T09:10:25Z</dcterms:modified>
  <cp:revision>1</cp:revision>
  <dc:subject/>
  <dc:title>PowerPoint Presentation</dc:title>
</cp:coreProperties>
</file>