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560-B2AA-4006-AB85-AC9B39DC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CB9-5EC1-4349-821A-05C8B43F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75C-C3E8-49B8-B1DA-1FE9AD97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F91-3E6B-4AC8-BFCF-5B0D8972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7695-7084-4876-A49B-D72C4020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5536-92DD-4C8E-BEF2-C82DDA2D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4BE2-06EE-436A-97A8-6BB7733E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B326-5CBB-4998-9359-36148AE4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512D-FDFD-419A-8D50-04334029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6E2D-4317-4DF4-9163-0F22CFA8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30ED-771F-4299-8325-B7B1D8C0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29F-3D25-4D80-9B97-6951D1BE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E9F3-5B85-4B6C-98D1-8371C1E2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EFA4-30E9-4228-AF85-2804898C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7F5F-A4A2-4225-8002-5B99D392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B6B8-F0DB-4F6D-83C6-58C69912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1F9A-5557-403D-83A6-6192022F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48A-DD35-46ED-AD14-09560344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221-8FCB-4F54-A91F-88F92D0E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6A6-9804-4633-A84C-3496D5B9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EF41-DAF1-4F8D-A259-841E8248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03F-9DAD-415B-A76D-ECDA7F98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99B-1B54-4AEE-AE27-6E9181DA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6A41-DA45-4684-8DB7-5FA6A138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B485-9FF5-4421-8428-68B3AE490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B2CF-3B80-403A-B902-E1C14286C56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4724280"/>
            <a:ext cx="4648320" cy="1905120"/>
          </a:xfrm>
          <a:prstGeom prst="foldedCorner">
            <a:avLst>
              <a:gd name="adj" fmla="val 125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04920"/>
            <a:ext cx="6172200" cy="1600200"/>
          </a:xfrm>
          <a:prstGeom prst="roundRect">
            <a:avLst>
              <a:gd name="adj" fmla="val 1666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43000" y="609480"/>
            <a:ext cx="1019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ims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3808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oduce an English Literature GCSE coursework piece on post 1914 po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895480" y="2133720"/>
            <a:ext cx="38124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62720" y="5181480"/>
            <a:ext cx="3808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657600" y="3276720"/>
            <a:ext cx="380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952880" y="4267080"/>
            <a:ext cx="3812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05320" y="22096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t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114800" y="3352680"/>
            <a:ext cx="161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titud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86400" y="4343400"/>
            <a:ext cx="16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chniqu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5880" y="533412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cces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943600" y="3657600"/>
            <a:ext cx="152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48520" y="3581280"/>
            <a:ext cx="236196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mosphe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3505320"/>
            <a:ext cx="297180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4724280"/>
            <a:ext cx="5562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Ski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with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51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ing own learning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Writing Task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War Poetry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ep 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all of your notes on the war poetry that you have stud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ep 2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the two poems that you feel convey the strongest messages relating to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ep 3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ing a mind-map or spidergram, note how the poems convey their mess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e any similarities or differ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ep 4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your diagram to make a list of points that explain how effectively the poems convey their mess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ep 5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now have your essay pl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oursework Tas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and contrast how any two poems that you have studied convey the experience of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ossible Structur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graph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, author and content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po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graph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tude of the poets to thei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graphs 3-5  Analysis of the techniques us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both po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graph 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um up, how successfu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poems were in convey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09:00:20Z</dcterms:created>
  <dc:creator>mahonls</dc:creator>
  <dc:description/>
  <dc:language>en-US</dc:language>
  <cp:lastModifiedBy>mahonls</cp:lastModifiedBy>
  <dcterms:modified xsi:type="dcterms:W3CDTF">2006-07-06T09:10:25Z</dcterms:modified>
  <cp:revision>1</cp:revision>
  <dc:subject/>
  <dc:title>PowerPoint Presentation</dc:title>
</cp:coreProperties>
</file>