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4321-9417-4919-A23D-E34536C62C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 – http://www.komedia-rel.com/0408/200408091335_t_thesoldier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poem, presented as one long stanz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48D4-0AB7-4466-A24D-A2B84E15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2B72-0CCA-4A75-B0A8-9A8DC064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D516-8000-419D-BE72-4916351C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638B-80F0-4B2A-B24A-CC190E37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84B6-0926-459C-B17B-CF3F1154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F698-CAB8-4DE4-9B8F-3805F3E4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1EF2-21DF-4AD6-998A-06752841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0A32-74A0-40E2-BFD4-578AB5C4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E9C3-85F1-4364-ADE2-E520270F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E1B4-BE71-455B-AFD2-F67AC6E5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32DF-D851-4F12-BEE9-DF35AF38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32B7-2149-4621-82E4-0927A6A3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497A-C06F-4A55-92CB-20400748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69CA-9E05-4CCE-87DA-DEB725B8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AB29-E4D8-4A1E-B5C6-3ABE651C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C25C-2CE7-4511-8197-ECE728F3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019E-B479-4437-AA87-B485D3D7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6154-1649-4A6B-884B-4D6CF39E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12C8-ACFB-496F-A59C-D3298954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9E42-4263-412E-9534-38A9368E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115B-F51E-4A24-89D6-797E7F11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FAD3-E8C9-4C1E-98BB-6ECA0581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92BE-8B0E-4DCE-BA4C-0C6762A1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1A86-67B2-4A49-ABEF-0C6028F5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DFDB-9309-4907-8042-4F1941276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CAA8-901C-48CE-A951-E4C69F91468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4724280"/>
            <a:ext cx="4648320" cy="1905120"/>
          </a:xfrm>
          <a:prstGeom prst="foldedCorner">
            <a:avLst>
              <a:gd name="adj" fmla="val 125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04920"/>
            <a:ext cx="6172200" cy="1600200"/>
          </a:xfrm>
          <a:prstGeom prst="roundRect">
            <a:avLst>
              <a:gd name="adj" fmla="val 16667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43000" y="609480"/>
            <a:ext cx="1019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ims: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380880"/>
            <a:ext cx="5715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an understanding of the po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awareness of how poetic form is used in poe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95480" y="2133720"/>
            <a:ext cx="38124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562720" y="5181480"/>
            <a:ext cx="3808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657600" y="3276720"/>
            <a:ext cx="380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952880" y="4267080"/>
            <a:ext cx="3812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05320" y="2209680"/>
            <a:ext cx="161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nten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114800" y="3352680"/>
            <a:ext cx="161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titud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86400" y="4343400"/>
            <a:ext cx="16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chniqu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5880" y="5334120"/>
            <a:ext cx="1447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cces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943600" y="3657600"/>
            <a:ext cx="1522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48520" y="3581280"/>
            <a:ext cx="236196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tmospher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3505320"/>
            <a:ext cx="2971800" cy="533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4724280"/>
            <a:ext cx="55627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 Ski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with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ing own learning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95280" y="1905120"/>
            <a:ext cx="7467840" cy="4038480"/>
          </a:xfrm>
          <a:prstGeom prst="roundRect">
            <a:avLst>
              <a:gd name="adj" fmla="val 16667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n: 3 August 188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bridge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listed as Offi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riotic ‘Georgian Poe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d: 23 April 1915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ic pneumonia from a mosquito b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581280" y="914400"/>
            <a:ext cx="32004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ograph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 rot="5400000">
            <a:off x="-2209680" y="3048120"/>
            <a:ext cx="579096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Rupert Brook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1446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447920" y="228600"/>
            <a:ext cx="3808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905120" y="380880"/>
            <a:ext cx="161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nten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irs, select a possible title for the po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ise the content in one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71600" y="1981080"/>
            <a:ext cx="732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line every word with a negative association in </a:t>
            </a:r>
            <a:r>
              <a:rPr b="0" lang="en-US" sz="2800" spc="-1" strike="noStrike">
                <a:solidFill>
                  <a:srgbClr val="d54f41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line every word with a positive association in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gre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line every word that you associate with religion in </a:t>
            </a:r>
            <a:r>
              <a:rPr b="0" lang="en-US" sz="2800" spc="-1" strike="noStrike">
                <a:solidFill>
                  <a:srgbClr val="727de0"/>
                </a:solidFill>
                <a:latin typeface="Times New Roman"/>
              </a:rPr>
              <a:t>b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one paragraph explaining why you think this poem presents such an idyllic view of Eng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447920" y="304920"/>
            <a:ext cx="4572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981080" y="457200"/>
            <a:ext cx="17528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titud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 the 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 the syllables in each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out the rhyme scheme (using A B C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you know what this poetic form is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7920" y="533520"/>
            <a:ext cx="7617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onnet is poetic form used traditionally as, amongst other things, love po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ine every example of person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o you think Rupert Brooke used this poetic for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447920" y="533520"/>
            <a:ext cx="7617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42640" y="2209320"/>
            <a:ext cx="76201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you think is the purpose of this po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 bereaved rel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urage boys to go to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patriotic feeling among the general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lorify and romanticise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219320" y="457200"/>
            <a:ext cx="609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4800600"/>
            <a:ext cx="72388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3480" indent="-47304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what extent does the poem achieve these aims? Write at least one para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0:04:08Z</dcterms:created>
  <dc:creator>Mahoney</dc:creator>
  <dc:description/>
  <dc:language>en-US</dc:language>
  <cp:lastModifiedBy>mahonls</cp:lastModifiedBy>
  <dcterms:modified xsi:type="dcterms:W3CDTF">2006-07-06T09:28:45Z</dcterms:modified>
  <cp:revision>9</cp:revision>
  <dc:subject/>
  <dc:title>PowerPoint Presentation</dc:title>
</cp:coreProperties>
</file>