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FE6B-9831-48AA-9EEE-D3C1EB5640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 – http://www.komedia-rel.com/0408/200408091335_t_thesoldier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poem, presented as one long stan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752-420F-4430-BAF9-17071329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C072-4620-4B32-B0DE-FE26CF0F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EC0A-ABEB-4882-B274-69B54F62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F98B-1F9B-418D-8D6D-1700A784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5BB0-E8C0-41FD-8BEF-8FA2C358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69D6-0246-4681-BE91-E0AFB01E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A49E-7AA2-4D8B-A255-A2956739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569B-097C-4D2C-80D6-CEEE8821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5B44-70F7-424B-838C-8CAD0B4A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3657-0ABB-4EAA-9AE0-71EE50B6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C319-783D-4788-A389-B30A1386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6F94-954C-4A9A-9B89-94733002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BE8F-BE9D-4C74-B9F1-0A40B9CD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72E5-8D14-48A9-BCB0-120DA757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C5F3-021B-430D-AE69-834F4140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DD9B-6B9A-4635-B818-BF18B36A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98F3-9B77-4CB5-9D9D-E366809A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99C3-323A-4D82-A5E4-49CCAA9B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B459-DFE7-4AD6-93A7-5C741F56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69F-2B3A-4E9C-8D59-A7A70269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77A1-B3B1-4A2C-B93F-3CFA31CA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6994-F55B-40F2-B7B0-1578BC8D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9D3-377D-45FD-9613-5E38933C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2AA-493C-418C-80B2-4CD53567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65FD-D575-49EE-A1C5-90933378B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9314-3FAD-4E54-A74E-E7C91EB0EF6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4724280"/>
            <a:ext cx="4648320" cy="1905120"/>
          </a:xfrm>
          <a:prstGeom prst="foldedCorner">
            <a:avLst>
              <a:gd name="adj" fmla="val 125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04920"/>
            <a:ext cx="6172200" cy="160020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3000" y="609480"/>
            <a:ext cx="1019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ims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80880"/>
            <a:ext cx="5715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n understanding of the po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wareness of how poetic form is used in po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95480" y="2133720"/>
            <a:ext cx="38124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562720" y="5181480"/>
            <a:ext cx="3808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657600" y="3276720"/>
            <a:ext cx="380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952880" y="4267080"/>
            <a:ext cx="3812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05320" y="22096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t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114800" y="33526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titud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86400" y="4343400"/>
            <a:ext cx="16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chniqu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5880" y="533412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cces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943600" y="3657600"/>
            <a:ext cx="152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48520" y="3581280"/>
            <a:ext cx="236196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tmospher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3505320"/>
            <a:ext cx="297180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4724280"/>
            <a:ext cx="5562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Ski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with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ing own learning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95280" y="1905120"/>
            <a:ext cx="7467840" cy="403848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n: 3 August 188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bridg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listed as Offi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riotic ‘Georgian Poe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d: 23 April 1915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ic pneumonia from a mosquito b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81280" y="914400"/>
            <a:ext cx="3200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ograph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 rot="5400000">
            <a:off x="-2209680" y="3048120"/>
            <a:ext cx="57909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Rupert Brook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1446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447920" y="228600"/>
            <a:ext cx="3808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905120" y="3808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t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irs, select a possible title for the po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ise the content in one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71600" y="1981080"/>
            <a:ext cx="732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line every word with a negative association in </a:t>
            </a:r>
            <a:r>
              <a:rPr b="0" lang="en-US" sz="2800" spc="-1" strike="noStrike">
                <a:solidFill>
                  <a:srgbClr val="d54f41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line every word with a positive association in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gre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line every word that you associate with religion in </a:t>
            </a:r>
            <a:r>
              <a:rPr b="0" lang="en-US" sz="2800" spc="-1" strike="noStrike">
                <a:solidFill>
                  <a:srgbClr val="727de0"/>
                </a:solidFill>
                <a:latin typeface="Times New Roman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one paragraph explaining why you think this poem presents such an idyllic view of Eng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47920" y="304920"/>
            <a:ext cx="4572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981080" y="457200"/>
            <a:ext cx="17528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titud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 the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 the syllables in each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out the rhyme scheme (using A B C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know what this poetic form is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7920" y="533520"/>
            <a:ext cx="7617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onnet is poetic form used traditionally as, amongst other things, love po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ine every example of perso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 you think Rupert Brooke used this poetic for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47920" y="533520"/>
            <a:ext cx="7617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42640" y="2209320"/>
            <a:ext cx="76201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you think is the purpose of this po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 bereaved rel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rage boys to go to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patriotic feeling among the general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lorify and romanticise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219320" y="457200"/>
            <a:ext cx="609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4800600"/>
            <a:ext cx="72388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3480" indent="-4730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what extent does the poem achieve these aims? Write at least one para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0:04:08Z</dcterms:created>
  <dc:creator>Mahoney</dc:creator>
  <dc:description/>
  <dc:language>en-US</dc:language>
  <cp:lastModifiedBy>mahonls</cp:lastModifiedBy>
  <dcterms:modified xsi:type="dcterms:W3CDTF">2006-07-06T09:28:45Z</dcterms:modified>
  <cp:revision>9</cp:revision>
  <dc:subject/>
  <dc:title>PowerPoint Presentation</dc:title>
</cp:coreProperties>
</file>