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8695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5E0D7-88D4-4688-88CC-0002857C02B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 – Oxford University Press 1991 – Collected works Co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bute the poem, presented as one long stanz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333F3-E313-486A-A6A9-EA9E77CF2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8E1BB-E275-46C8-8477-549C0962C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62379-C4A3-494A-A379-9A8C9DB5E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9477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242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2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9477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242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7284E-3802-4FE1-BE62-BEF63CC94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D0428-EDC1-4A4B-8B4D-DB29C7955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B8135-3D05-4BB0-94A0-824F3DAF3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197F7-9B0B-4FE6-987E-8F4007076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1A6F5-07EC-4765-A3DC-93ADA69EC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FC3F3-E85F-466A-9780-29AFAFE29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371240" y="533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B99C5-585D-4249-9E05-3F5C7F055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9DC0B-99F1-4AC2-B826-966C04A46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8EA4B-24C1-4A39-A547-FA4F019C6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7C475-7367-4DBC-8DE1-879FCD4CF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467A3-2D22-4520-86A7-FF9024F90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A716B-139F-497B-8FDF-A59C3ED7D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AAB24-99A3-4AF5-BFE2-1101E6A25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9477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5242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3712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9477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5242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9D45A-8133-4AE9-8173-C0C828349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AD566-8A19-42DD-93F1-65A34B81E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4A4F0-8D16-48AA-A9E7-08AED6F88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5A6D0-A6F2-473B-9205-3926C21B0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371240" y="533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EDDE5-2EE3-45BB-A71D-466629507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26E0F-6709-40C3-A4F1-FA6BE04D7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2E8F4-7066-4C70-9D07-96671C1C9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12D39-1538-41CE-A731-0043E86EB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3712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342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A205A-815E-4F32-BA16-84B293351F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strtegic1" descr=""/>
          <p:cNvPicPr/>
          <p:nvPr/>
        </p:nvPicPr>
        <p:blipFill>
          <a:blip r:embed="rId2"/>
          <a:stretch/>
        </p:blipFill>
        <p:spPr>
          <a:xfrm>
            <a:off x="0" y="0"/>
            <a:ext cx="1219320" cy="68580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8695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997FF-D7AD-446F-8454-690BEBD99620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8695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solearabiantree.net/namingofparts/audio/namingofparts.mp3" TargetMode="External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52280" y="4724280"/>
            <a:ext cx="4648320" cy="1905120"/>
          </a:xfrm>
          <a:prstGeom prst="foldedCorner">
            <a:avLst>
              <a:gd name="adj" fmla="val 12500"/>
            </a:avLst>
          </a:prstGeom>
          <a:solidFill>
            <a:srgbClr val="727de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514600" y="304920"/>
            <a:ext cx="6172200" cy="1600200"/>
          </a:xfrm>
          <a:prstGeom prst="roundRect">
            <a:avLst>
              <a:gd name="adj" fmla="val 16667"/>
            </a:avLst>
          </a:prstGeom>
          <a:solidFill>
            <a:srgbClr val="727de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1143000" y="609480"/>
            <a:ext cx="10191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ims: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3" name=""/>
          <p:cNvSpPr/>
          <p:nvPr/>
        </p:nvSpPr>
        <p:spPr>
          <a:xfrm>
            <a:off x="2666880" y="380880"/>
            <a:ext cx="57150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develop an understanding of the po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develop awareness of how narrative voice is used in poet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895480" y="2133720"/>
            <a:ext cx="381240" cy="799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C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5562720" y="5181480"/>
            <a:ext cx="380880" cy="80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S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3657600" y="3276720"/>
            <a:ext cx="38088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A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952880" y="4267080"/>
            <a:ext cx="38124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T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505320" y="2209680"/>
            <a:ext cx="161928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ontent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114800" y="3352680"/>
            <a:ext cx="161928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ttitude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486400" y="4343400"/>
            <a:ext cx="16192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echnique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095880" y="5334120"/>
            <a:ext cx="1447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uccess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5943600" y="3657600"/>
            <a:ext cx="152280" cy="26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or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248520" y="3581280"/>
            <a:ext cx="2361960" cy="419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Atmosphere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4" name=""/>
          <p:cNvSpPr/>
          <p:nvPr/>
        </p:nvSpPr>
        <p:spPr>
          <a:xfrm>
            <a:off x="5791320" y="3505320"/>
            <a:ext cx="2971800" cy="5331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28600" y="4724280"/>
            <a:ext cx="5562720" cy="16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151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ey Skill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151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orking with oth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151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proving own learning and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676520" y="1905120"/>
            <a:ext cx="7086600" cy="4038480"/>
          </a:xfrm>
          <a:prstGeom prst="roundRect">
            <a:avLst>
              <a:gd name="adj" fmla="val 16667"/>
            </a:avLst>
          </a:prstGeom>
          <a:solidFill>
            <a:srgbClr val="727de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19810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rn: 22 February 191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Birmingham – BA, 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acher and journali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lled up: 1941 – Japanese transla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BC playwright and po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ed: 8 December 198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581280" y="914400"/>
            <a:ext cx="320040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Biography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447920" y="228600"/>
            <a:ext cx="1428480" cy="18954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 rot="5400000">
            <a:off x="-2209680" y="3048120"/>
            <a:ext cx="5790960" cy="7617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Henry Read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8960" y="23619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Click to hear the poem being read by the poet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2" name="">
            <a:hlinkClick r:id="rId1"/>
          </p:cNvPr>
          <p:cNvSpPr/>
          <p:nvPr/>
        </p:nvSpPr>
        <p:spPr>
          <a:xfrm>
            <a:off x="3886200" y="4267080"/>
            <a:ext cx="1523880" cy="1219320"/>
          </a:xfrm>
          <a:custGeom>
            <a:avLst/>
            <a:gdLst>
              <a:gd name="textAreaLeft" fmla="*/ 78840 w 1523880"/>
              <a:gd name="textAreaRight" fmla="*/ 1445040 w 1523880"/>
              <a:gd name="textAreaTop" fmla="*/ 78840 h 1219320"/>
              <a:gd name="textAreaBottom" fmla="*/ 1140480 h 1219320"/>
            </a:gdLst>
            <a:ahLst/>
            <a:rect l="textAreaLeft" t="textAreaTop" r="textAreaRight" b="textAreaBottom"/>
            <a:pathLst>
              <a:path w="26994" h="21600">
                <a:moveTo>
                  <a:pt x="0" y="0"/>
                </a:moveTo>
                <a:lnTo>
                  <a:pt x="26994" y="0"/>
                </a:lnTo>
                <a:lnTo>
                  <a:pt x="26994" y="21600"/>
                </a:lnTo>
                <a:lnTo>
                  <a:pt x="0" y="21600"/>
                </a:lnTo>
                <a:close/>
              </a:path>
              <a:path fill="lightenLess" w="26994" h="21600">
                <a:moveTo>
                  <a:pt x="0" y="0"/>
                </a:moveTo>
                <a:lnTo>
                  <a:pt x="26994" y="0"/>
                </a:lnTo>
                <a:lnTo>
                  <a:pt x="25594" y="1400"/>
                </a:lnTo>
                <a:lnTo>
                  <a:pt x="1400" y="1400"/>
                </a:lnTo>
                <a:close/>
              </a:path>
              <a:path fill="darken" w="26994" h="21600">
                <a:moveTo>
                  <a:pt x="26994" y="0"/>
                </a:moveTo>
                <a:lnTo>
                  <a:pt x="26994" y="21600"/>
                </a:lnTo>
                <a:lnTo>
                  <a:pt x="25594" y="20200"/>
                </a:lnTo>
                <a:lnTo>
                  <a:pt x="25594" y="1400"/>
                </a:lnTo>
                <a:close/>
              </a:path>
              <a:path fill="darkenLess" w="26994" h="21600">
                <a:moveTo>
                  <a:pt x="26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4" y="20200"/>
                </a:lnTo>
                <a:close/>
              </a:path>
              <a:path fill="lighten" w="26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94" h="21600">
                <a:moveTo>
                  <a:pt x="6490" y="8406"/>
                </a:moveTo>
                <a:lnTo>
                  <a:pt x="10921" y="8406"/>
                </a:lnTo>
                <a:lnTo>
                  <a:pt x="15342" y="3794"/>
                </a:lnTo>
                <a:lnTo>
                  <a:pt x="15342" y="17806"/>
                </a:lnTo>
                <a:lnTo>
                  <a:pt x="10921" y="13194"/>
                </a:lnTo>
                <a:lnTo>
                  <a:pt x="6490" y="13194"/>
                </a:lnTo>
                <a:close/>
              </a:path>
              <a:path fill="darken" w="26994" h="21600">
                <a:moveTo>
                  <a:pt x="16996" y="10800"/>
                </a:moveTo>
                <a:lnTo>
                  <a:pt x="20503" y="10800"/>
                </a:lnTo>
              </a:path>
              <a:path fill="darken" w="26994" h="21600">
                <a:moveTo>
                  <a:pt x="16996" y="8406"/>
                </a:moveTo>
                <a:lnTo>
                  <a:pt x="20503" y="5639"/>
                </a:lnTo>
              </a:path>
              <a:path fill="darken" w="26994" h="21600">
                <a:moveTo>
                  <a:pt x="16996" y="13194"/>
                </a:moveTo>
                <a:lnTo>
                  <a:pt x="20503" y="15961"/>
                </a:lnTo>
              </a:path>
            </a:pathLst>
          </a:custGeom>
          <a:solidFill>
            <a:srgbClr val="727de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09320" y="91440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6600"/>
                </a:solidFill>
                <a:latin typeface="Times New Roman"/>
              </a:rPr>
              <a:t>Read the Poem Carefully…</a:t>
            </a:r>
            <a:endParaRPr b="0" lang="en-US" sz="40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 are two speakers in this poe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lain who they are and what they are doing or think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a highlighter to show the separate speaker’s l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onal: with a partner, prepare a reading of this po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256360" y="198108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oem is supposed to be split into five stanz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 these breaks on your shee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lain your decis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1447920" y="228600"/>
            <a:ext cx="380880" cy="80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C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905120" y="380880"/>
            <a:ext cx="161928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ontent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7321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erline every word that you associate with guns or weapons in </a:t>
            </a:r>
            <a:r>
              <a:rPr b="0" lang="en-US" sz="3200" spc="-1" strike="noStrike">
                <a:solidFill>
                  <a:srgbClr val="d54f41"/>
                </a:solidFill>
                <a:latin typeface="Times New Roman"/>
              </a:rPr>
              <a:t>re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erline every word that you associate with natural or peaceful feelings in </a:t>
            </a:r>
            <a:r>
              <a:rPr b="0" lang="en-US" sz="3200" spc="-1" strike="noStrike">
                <a:solidFill>
                  <a:srgbClr val="339933"/>
                </a:solidFill>
                <a:latin typeface="Times New Roman"/>
              </a:rPr>
              <a:t>gree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143000" y="304920"/>
            <a:ext cx="457200" cy="95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A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1676520" y="457200"/>
            <a:ext cx="175248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ttitude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447920" y="5181480"/>
            <a:ext cx="6705360" cy="1295640"/>
          </a:xfrm>
          <a:prstGeom prst="roundRect">
            <a:avLst>
              <a:gd name="adj" fmla="val 16667"/>
            </a:avLst>
          </a:prstGeom>
          <a:solidFill>
            <a:srgbClr val="727de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1371600" y="198108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lain why you think the poet has joined these two very different element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256360" y="198108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 the repetition in each stanza and underline 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y do you think the poet used this techniqu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447920" y="5257800"/>
            <a:ext cx="71625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Key words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un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ontrast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juxtaposi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1447920" y="533520"/>
            <a:ext cx="761760" cy="95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T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295280" y="4038480"/>
            <a:ext cx="5867640" cy="1905120"/>
          </a:xfrm>
          <a:prstGeom prst="roundRect">
            <a:avLst>
              <a:gd name="adj" fmla="val 16667"/>
            </a:avLst>
          </a:prstGeom>
          <a:solidFill>
            <a:srgbClr val="727de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rite a paragraph explaining why you think this poem is successfu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1219320" y="457200"/>
            <a:ext cx="60948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S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30" name=""/>
          <p:cNvSpPr/>
          <p:nvPr/>
        </p:nvSpPr>
        <p:spPr>
          <a:xfrm>
            <a:off x="1295280" y="4191120"/>
            <a:ext cx="76201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52560"/>
                <a:tab algn="l" pos="380988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ey word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52560"/>
                <a:tab algn="l" pos="380988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ra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uxtapos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ager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8T10:04:08Z</dcterms:created>
  <dc:creator>Mahoney</dc:creator>
  <dc:description/>
  <dc:language>en-US</dc:language>
  <cp:lastModifiedBy>mahonls</cp:lastModifiedBy>
  <dcterms:modified xsi:type="dcterms:W3CDTF">2006-07-06T09:29:12Z</dcterms:modified>
  <cp:revision>6</cp:revision>
  <dc:subject/>
  <dc:title>PowerPoint Presentation</dc:title>
</cp:coreProperties>
</file>