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5C93-4F20-4B72-B2BE-F75822FE5F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– Oxford University Press 1991 – Collected works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poem, presented as one long stanz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0A5E-14C5-46B1-A04E-4FA91128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2FD-9728-493D-B36D-BCC9DFCF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E29D-7118-448A-A741-6708670C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5595-A199-4B58-A6BD-08E0AFF5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5CED-144B-41F8-91E7-5E004F34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8F2D-63EC-4994-8A30-863D5063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11C1-9B99-4CCB-96BD-3F72FE09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403F-9EF0-41C5-ACE2-9582D589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A188-79B3-444A-8E2D-77744D9E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5CE0-DE74-49D8-9764-6BAA776D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C8DB-3901-4047-8B7A-0610A3A3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3F80-8F3E-4B9F-99C8-C584D38D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3F48-B717-4D2E-B219-FD21D76C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497B-0328-4C37-ADAD-15698657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30BF-35F1-4479-9675-6A2305B7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5838-9EFC-4C0D-952F-A0BEBB82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E51F-9B44-4B72-BB9B-570AD68C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6559-C3DA-4A65-A6CD-C082FAAD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4B61-5AF4-43AA-B1AC-78AD022D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966C-E504-430D-B6C6-278D18D0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2DEC-883C-4B9B-AA35-36057CD3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4B75-56B6-41E7-80C4-8A2F5545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0F46-0557-4E69-873B-F20FDC65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BA6A-4248-4D77-BC6B-886B2A72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90EC-856E-439E-907B-089532A44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03E9-CB41-4F81-AA41-7F4680A8408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olearabiantree.net/namingofparts/audio/namingofparts.mp3" TargetMode="External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4724280"/>
            <a:ext cx="4648320" cy="1905120"/>
          </a:xfrm>
          <a:prstGeom prst="foldedCorner">
            <a:avLst>
              <a:gd name="adj" fmla="val 125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04920"/>
            <a:ext cx="6172200" cy="160020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3000" y="609480"/>
            <a:ext cx="1019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ims: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380880"/>
            <a:ext cx="5715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n understanding of the po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wareness of how narrative voice is used in po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95480" y="2133720"/>
            <a:ext cx="38124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562720" y="5181480"/>
            <a:ext cx="3808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657600" y="3276720"/>
            <a:ext cx="380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952880" y="4267080"/>
            <a:ext cx="3812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05320" y="22096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t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114800" y="33526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titud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86400" y="4343400"/>
            <a:ext cx="16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chniqu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5880" y="533412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cces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943600" y="3657600"/>
            <a:ext cx="152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48520" y="3581280"/>
            <a:ext cx="236196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tmospher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3505320"/>
            <a:ext cx="297180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4724280"/>
            <a:ext cx="55627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Ski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with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ing own learning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76520" y="1905120"/>
            <a:ext cx="7086600" cy="403848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981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n: 22 February 19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Birmingham – BA, 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er and journa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ed up: 1941 – Japanese trans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BC playwright and po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d: 8 December 198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81280" y="914400"/>
            <a:ext cx="32004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ograph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1428480" cy="1895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 rot="5400000">
            <a:off x="-2209680" y="3048120"/>
            <a:ext cx="57909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Henry Re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2361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hear the poem being read by the poe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">
            <a:hlinkClick r:id="rId1"/>
          </p:cNvPr>
          <p:cNvSpPr/>
          <p:nvPr/>
        </p:nvSpPr>
        <p:spPr>
          <a:xfrm>
            <a:off x="3886200" y="4267080"/>
            <a:ext cx="1523880" cy="1219320"/>
          </a:xfrm>
          <a:custGeom>
            <a:avLst/>
            <a:gdLst>
              <a:gd name="textAreaLeft" fmla="*/ 78840 w 1523880"/>
              <a:gd name="textAreaRight" fmla="*/ 1445040 w 15238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8406"/>
                </a:moveTo>
                <a:lnTo>
                  <a:pt x="10921" y="8406"/>
                </a:lnTo>
                <a:lnTo>
                  <a:pt x="15342" y="3794"/>
                </a:lnTo>
                <a:lnTo>
                  <a:pt x="15342" y="17806"/>
                </a:lnTo>
                <a:lnTo>
                  <a:pt x="10921" y="13194"/>
                </a:lnTo>
                <a:lnTo>
                  <a:pt x="6490" y="13194"/>
                </a:lnTo>
                <a:close/>
              </a:path>
              <a:path fill="darken" w="26994" h="21600">
                <a:moveTo>
                  <a:pt x="16996" y="10800"/>
                </a:moveTo>
                <a:lnTo>
                  <a:pt x="20503" y="10800"/>
                </a:lnTo>
              </a:path>
              <a:path fill="darken" w="26994" h="21600">
                <a:moveTo>
                  <a:pt x="16996" y="8406"/>
                </a:moveTo>
                <a:lnTo>
                  <a:pt x="20503" y="5639"/>
                </a:lnTo>
              </a:path>
              <a:path fill="darken" w="26994" h="21600">
                <a:moveTo>
                  <a:pt x="16996" y="13194"/>
                </a:moveTo>
                <a:lnTo>
                  <a:pt x="20503" y="15961"/>
                </a:lnTo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09320" y="9144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Read the Poem Carefully…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speakers in this po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who they are and what they are doing or thin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highlighter to show the separate speaker’s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: with a partner, prepare a reading of this po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56360" y="19810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em is supposed to be split into five stanz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these breaks on your she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your deci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47920" y="228600"/>
            <a:ext cx="3808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905120" y="3808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t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2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ine every word that you associate with guns or weapons in </a:t>
            </a:r>
            <a:r>
              <a:rPr b="0" lang="en-US" sz="3200" spc="-1" strike="noStrike">
                <a:solidFill>
                  <a:srgbClr val="d54f41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ine every word that you associate with natural or peaceful feelings in 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43000" y="304920"/>
            <a:ext cx="4572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676520" y="457200"/>
            <a:ext cx="1752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titud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47920" y="5181480"/>
            <a:ext cx="6705360" cy="129564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371600" y="19810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why you think the poet has joined these two very different elem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56360" y="19810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repetition in each stanza and underlin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 you think the poet used this techniq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5257800"/>
            <a:ext cx="7162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Key word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u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ras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uxta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447920" y="533520"/>
            <a:ext cx="7617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95280" y="4038480"/>
            <a:ext cx="5867640" cy="190512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paragraph explaining why you think this poem is success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19320" y="457200"/>
            <a:ext cx="609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4191120"/>
            <a:ext cx="76201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52560"/>
                <a:tab algn="l" pos="380988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wor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52560"/>
                <a:tab algn="l" pos="380988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xta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0:04:08Z</dcterms:created>
  <dc:creator>Mahoney</dc:creator>
  <dc:description/>
  <dc:language>en-US</dc:language>
  <cp:lastModifiedBy>mahonls</cp:lastModifiedBy>
  <dcterms:modified xsi:type="dcterms:W3CDTF">2006-07-06T09:29:12Z</dcterms:modified>
  <cp:revision>6</cp:revision>
  <dc:subject/>
  <dc:title>PowerPoint Presentation</dc:title>
</cp:coreProperties>
</file>