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9B90-8ED7-4D98-8184-41BB99F5DF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 – http://www.robertgraves.org/gallery/rab_photos – ‘fair use’ allow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poem, presented as one long stanz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FA7A-B863-437B-9008-11DCB07C4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12EE-7E84-42CC-B800-6A9C25BF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70DE-8489-4F20-B022-B1EFA6B32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5D4A-5D23-4265-8E30-1ED026CEA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D3F3F-C606-4BF3-9B44-E24852953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384E-80BD-4E06-86AD-BC684B2E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34C9-016C-4942-9326-890F94BE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814E-4316-4B9F-9FB9-0EE8AC05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54CC-ED81-4262-BA3E-95DC68B5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A489-CFAE-4C4E-8246-FA080EB4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E63E-8FF4-46D6-9DB4-BDE8A645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1C74-2583-48C4-943B-EC21A852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543A-17AE-4806-9902-B4E3B630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D373C-C16C-499F-BB7E-F8AA1932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2F5D-518B-4097-8199-D31A8AC9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72F3-3774-48A4-92B1-ED52AB0E9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4A35-42D9-440C-AE94-42B218C4C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B2D5-3ADF-4AB0-84B5-A261D6EC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0415-41BB-4B42-BD13-82AB45A1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913B-E133-4473-B877-1C52E6E3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DACA-3C57-450D-9553-A6E92B37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7544-BC10-4625-B936-3D8CEAF1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E279-6295-4AF3-AD88-36B1F298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92CE-F47A-444A-B47B-FB01AA7A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C083-0FB5-4A9B-B75E-19EA88BB3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AE0C-DB43-48BE-BDD6-DE00C429D00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robertgraves.org/gallery/rab_photos/sh87aa_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2280" y="4724280"/>
            <a:ext cx="4648320" cy="1905120"/>
          </a:xfrm>
          <a:prstGeom prst="foldedCorner">
            <a:avLst>
              <a:gd name="adj" fmla="val 12500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304920"/>
            <a:ext cx="6172200" cy="1828800"/>
          </a:xfrm>
          <a:prstGeom prst="roundRect">
            <a:avLst>
              <a:gd name="adj" fmla="val 16667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143000" y="609480"/>
            <a:ext cx="1019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ims: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380880"/>
            <a:ext cx="5715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velop an understanding of the po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velop awareness of how rich vocabulary and alliteration are used in poe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895480" y="2209680"/>
            <a:ext cx="38124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562720" y="5181480"/>
            <a:ext cx="3808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657600" y="3276720"/>
            <a:ext cx="3808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952880" y="4267080"/>
            <a:ext cx="38124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505320" y="2286000"/>
            <a:ext cx="1619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nten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114800" y="3352680"/>
            <a:ext cx="1619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titud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486400" y="4343400"/>
            <a:ext cx="1619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chniqu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095880" y="5334120"/>
            <a:ext cx="1447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ucces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943600" y="3657600"/>
            <a:ext cx="15228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r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248520" y="3581280"/>
            <a:ext cx="236196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tmospher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5791320" y="3505320"/>
            <a:ext cx="2971800" cy="5331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4724280"/>
            <a:ext cx="556272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51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y Skil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51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ing with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51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ing own learning a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295280" y="1905120"/>
            <a:ext cx="7467840" cy="4038480"/>
          </a:xfrm>
          <a:prstGeom prst="roundRect">
            <a:avLst>
              <a:gd name="adj" fmla="val 16667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rn: 1895, Wimble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id not gradu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listed 1914, injured at Som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et, Novelist, Professor of Po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ed: 1985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581280" y="914400"/>
            <a:ext cx="32004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iography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"/>
          <p:cNvSpPr txBox="1"/>
          <p:nvPr/>
        </p:nvSpPr>
        <p:spPr>
          <a:xfrm rot="5400000">
            <a:off x="-2323800" y="3162240"/>
            <a:ext cx="601956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Robert Grav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10" name=""/>
          <p:cNvSpPr/>
          <p:nvPr/>
        </p:nvSpPr>
        <p:spPr>
          <a:xfrm>
            <a:off x="-9828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sh87aa_1.thumb" descr="sh87aa~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304920"/>
            <a:ext cx="13147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09320" y="91440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Read the Poem Carefully…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447920" y="228600"/>
            <a:ext cx="3808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905120" y="380880"/>
            <a:ext cx="1619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nten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your own words, re-write the poem as a dialogue between two frie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32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Robert Graves trying to tell us about w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 is h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s die in war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th is horr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ality of war is totally different to the ‘blood and fame’ of the so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 these statements in rank order and explain your cho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43000" y="304920"/>
            <a:ext cx="4572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676520" y="457200"/>
            <a:ext cx="17524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titud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37160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e three words or phrases that describe the dead soldier and explain what effect they have on the rea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why alliteration is used in the final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447920" y="533520"/>
            <a:ext cx="76176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well does the poet use the techniques to get his message acros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19320" y="457200"/>
            <a:ext cx="6094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8T10:04:08Z</dcterms:created>
  <dc:creator>Mahoney</dc:creator>
  <dc:description/>
  <dc:language>en-US</dc:language>
  <cp:lastModifiedBy>mahonls</cp:lastModifiedBy>
  <dcterms:modified xsi:type="dcterms:W3CDTF">2006-07-06T09:36:11Z</dcterms:modified>
  <cp:revision>11</cp:revision>
  <dc:subject/>
  <dc:title>PowerPoint Presentation</dc:title>
</cp:coreProperties>
</file>