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E151-1357-4954-AD25-64422171DF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 – http://www.robertgraves.org/gallery/rab_photos – ‘fair use’ allo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poem, presented as one long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498-7208-49E6-9244-1BF3B984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EBD-6EB0-4CEA-A002-BEE829BD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B9D-600C-4154-9912-30F8014A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5D0-CE3C-401A-B29F-4EAB3235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7156-62F1-458A-8A5F-ECFEE662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5326-57BB-46B4-9F06-CBE57DDC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6214-5653-471D-8855-9AD84E6F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89F5-0376-4032-AA4C-C8652179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3AD9-F183-4CE2-92DA-420CE3C3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73A9-0F35-461A-A9B6-B2F290A2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C002-9B87-4661-AF93-5B747057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56B-65E5-4C3C-B443-1C4E05F5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D83A-7A9C-453B-9414-DCE423E7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DA0E-4C0B-4FEC-BD6E-421D589A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4FEB-4E21-48A8-9F93-9CBFCC7E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8627-C874-4A23-AC37-CA6B02A4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7DD0-0CDF-4981-B784-FCC9703F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B33-2186-472C-A4F9-E33886EC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14A-4D9F-4866-9DAE-AF7EBE25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3C6-964C-4570-801F-ED4CF06C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493-48BB-4F79-8D4D-3D77EAF3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6A0-1FE1-401F-A89F-B9D1411F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2FE-C19B-4F8B-B486-70C9A731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AB1-6C2F-4B10-A9B5-B4C191FD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7646-45E2-4049-8C0D-CE681329C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EA87-7F37-4936-92E9-07394327006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obertgraves.org/gallery/rab_photos/sh87aa_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4724280"/>
            <a:ext cx="4648320" cy="1905120"/>
          </a:xfrm>
          <a:prstGeom prst="foldedCorner">
            <a:avLst>
              <a:gd name="adj" fmla="val 125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04920"/>
            <a:ext cx="6172200" cy="182880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609480"/>
            <a:ext cx="10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ms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80880"/>
            <a:ext cx="5715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n understanding of the 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wareness of how rich vocabulary and alliteration are used in po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95480" y="2209680"/>
            <a:ext cx="3812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562720" y="518148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57600" y="3276720"/>
            <a:ext cx="380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952880" y="4267080"/>
            <a:ext cx="3812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05320" y="228600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14800" y="3352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86400" y="434340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hn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5880" y="53341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cc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43600" y="365760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48520" y="3581280"/>
            <a:ext cx="23619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mosphe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505320"/>
            <a:ext cx="297180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724280"/>
            <a:ext cx="5562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Ski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ing own learning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5280" y="1905120"/>
            <a:ext cx="7467840" cy="403848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n: 1895, Wimble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d not gradu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listed 1914, injured at So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et, Novelist, Professor of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d: 1985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81280" y="914400"/>
            <a:ext cx="3200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ograph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 rot="5400000">
            <a:off x="-2323800" y="3162240"/>
            <a:ext cx="60195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Robert Grav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-9828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sh87aa_1.thumb" descr="sh87aa~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1314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09320" y="9144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Read the Poem Carefully…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47920" y="22860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905120" y="3808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your own words, re-write the poem as a dialogue between two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2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Robert Graves trying to tell us about w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 is 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s die in war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 is horr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lity of war is totally different to the ‘blood and fame’ of the so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these statements in rank order and explain your ch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43000" y="304920"/>
            <a:ext cx="4572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76520" y="457200"/>
            <a:ext cx="1752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three words or phrases that describe the dead soldier and explain what effect they have on the r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why alliteration is used in the final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447920" y="533520"/>
            <a:ext cx="7617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ell does the poet use the techniques to get his message acro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9320" y="457200"/>
            <a:ext cx="609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0:04:08Z</dcterms:created>
  <dc:creator>Mahoney</dc:creator>
  <dc:description/>
  <dc:language>en-US</dc:language>
  <cp:lastModifiedBy>mahonls</cp:lastModifiedBy>
  <dcterms:modified xsi:type="dcterms:W3CDTF">2006-07-06T09:36:11Z</dcterms:modified>
  <cp:revision>11</cp:revision>
  <dc:subject/>
  <dc:title>PowerPoint Presentation</dc:title>
</cp:coreProperties>
</file>