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1612-AA13-4287-850E-C75D935357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 – http://www.oucs.ox.ac.uk/ltg/projects/jtap/images/thomas_l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D0B-96EA-414D-A822-98DD5A59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201-9302-4777-B666-6181FB70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98EA-487D-41C4-92D6-966BCBD6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661F-52EC-442E-BE85-97EA8F62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AFA1-2461-4900-8BF9-C32E3772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9A6F-C1BF-49B1-9A10-D74333E6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A42B-19C9-434A-93BF-7A825585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B95C-FE46-40EC-9867-223753B4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58ED-2C5E-43C4-B54E-A4B94C03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75DB-6AE9-4A5B-BFB6-EFFB6060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D82D-FC71-4924-AFB7-F42840AB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7EB1-1398-466C-982F-FB651BC8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255F-7C89-4426-9CDA-A1F62F98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6940-2108-40C6-A54C-F984BB57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2425-83F6-4664-892C-583880FE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5455-9A7A-4C3D-877E-9ECA5644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7631-1B32-4D08-B584-84DD6165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5613-4DE6-4BCA-9EDB-351AC81C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CC69-41A8-45CC-A12E-44824ECE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225-78F9-4950-9F0F-3D63BD83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769-3BC8-4436-B340-6A3F696C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183-160E-4AFE-AD41-CA1B40C8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848-8683-47F7-8EEF-1FDFDF56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40D7-DB3D-4453-A29D-66C600B6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8D36-4293-4ACD-B875-59681B138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971A-ECF3-4942-881E-C0B61988DF5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4724280"/>
            <a:ext cx="4648320" cy="1905120"/>
          </a:xfrm>
          <a:prstGeom prst="foldedCorner">
            <a:avLst>
              <a:gd name="adj" fmla="val 125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04920"/>
            <a:ext cx="6172200" cy="160020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609480"/>
            <a:ext cx="10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ms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80880"/>
            <a:ext cx="5715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n understanding of the 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wareness of how contrast is used in po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95480" y="2133720"/>
            <a:ext cx="3812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562720" y="5181480"/>
            <a:ext cx="380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57600" y="3276720"/>
            <a:ext cx="380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952880" y="4267080"/>
            <a:ext cx="3812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05320" y="2209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114800" y="3352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titud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86400" y="4343400"/>
            <a:ext cx="16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chniqu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5880" y="53341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cces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943600" y="365760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48520" y="3581280"/>
            <a:ext cx="23619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mosphe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3505320"/>
            <a:ext cx="297180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4724280"/>
            <a:ext cx="5562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Ski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with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ing own learning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09680" y="2286000"/>
            <a:ext cx="6324840" cy="403848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743200" y="23623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n: 1878, London, Welsh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listed: 191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d: 1917 – Arras battle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343400" y="914400"/>
            <a:ext cx="3200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ograph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1585800" cy="2181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5400000">
            <a:off x="-2248200" y="308592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Edward Tho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As the Team’s Head Brass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This refers to the horse brasses on a team of horses, pulling a plough.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343400" y="2438280"/>
            <a:ext cx="4114800" cy="251460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2438280"/>
            <a:ext cx="1371600" cy="25146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514600"/>
              <a:gd name="textAreaBottom" fmla="*/ 2447640 h 2514600"/>
            </a:gdLst>
            <a:ahLst/>
            <a:rect l="textAreaLeft" t="textAreaTop" r="textAreaRight" b="textAreaBottom"/>
            <a:pathLst>
              <a:path w="21600" h="39595">
                <a:moveTo>
                  <a:pt x="3600" y="0"/>
                </a:moveTo>
                <a:arcTo wR="3600" hR="3600" stAng="16200000" swAng="-5400000"/>
                <a:lnTo>
                  <a:pt x="0" y="35995"/>
                </a:lnTo>
                <a:arcTo wR="3600" hR="3600" stAng="10800000" swAng="-5400000"/>
                <a:lnTo>
                  <a:pt x="18000" y="39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2514600"/>
            <a:ext cx="2133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lo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r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51814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efly explain what happens in this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2514600"/>
            <a:ext cx="40384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mps of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ield left uncultivated for a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yellow flowered w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arrow trench left by a pl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1828800"/>
            <a:ext cx="495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ch up these words to their mean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971800" y="380880"/>
            <a:ext cx="19810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 all the words with agricultural/natural associ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 all the parts of the poem that refer to the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whether or not this is a w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j0331339" descr=""/>
          <p:cNvPicPr/>
          <p:nvPr/>
        </p:nvPicPr>
        <p:blipFill>
          <a:blip r:embed="rId1"/>
          <a:stretch/>
        </p:blipFill>
        <p:spPr>
          <a:xfrm>
            <a:off x="7315200" y="1905120"/>
            <a:ext cx="1219320" cy="1206360"/>
          </a:xfrm>
          <a:prstGeom prst="rect">
            <a:avLst/>
          </a:prstGeom>
          <a:ln w="0">
            <a:noFill/>
          </a:ln>
        </p:spPr>
      </p:pic>
      <p:pic>
        <p:nvPicPr>
          <p:cNvPr id="122" name="j0149435" descr=""/>
          <p:cNvPicPr/>
          <p:nvPr/>
        </p:nvPicPr>
        <p:blipFill>
          <a:blip r:embed="rId2"/>
          <a:stretch/>
        </p:blipFill>
        <p:spPr>
          <a:xfrm>
            <a:off x="7848720" y="4343400"/>
            <a:ext cx="996840" cy="2049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600200" y="685800"/>
            <a:ext cx="380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think is the message of this po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 goes on during the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s in France effect what happens in rural 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tastrophic events of the war are reflected in 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19520" y="762120"/>
            <a:ext cx="18288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cces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057400" y="60948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1008360" y="5715000"/>
            <a:ext cx="74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 indent="4762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effectively does this poem convey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men’s conversation we find out that two important events have occurred on the same 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significance of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181480"/>
            <a:ext cx="72388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rhyme scheme of this po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you think the poet used this sch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ue: it’s a conver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438280" y="685800"/>
            <a:ext cx="198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chniqu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905120" y="609480"/>
            <a:ext cx="533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0:04:08Z</dcterms:created>
  <dc:creator>Mahoney</dc:creator>
  <dc:description/>
  <dc:language>en-US</dc:language>
  <cp:lastModifiedBy>mahonls</cp:lastModifiedBy>
  <dcterms:modified xsi:type="dcterms:W3CDTF">2006-07-06T08:48:11Z</dcterms:modified>
  <cp:revision>7</cp:revision>
  <dc:subject/>
  <dc:title>PowerPoint Presentation</dc:title>
</cp:coreProperties>
</file>