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29E-B4E5-4023-B75A-689C362EF5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 – http://www.oucs.ox.ac.uk/ltg/projects/jtap/images/thomas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024-CCA2-46FE-957A-AE221E65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72C-2052-4D01-AF7C-54339EF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9AB-05C5-4612-B323-407AE2FA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27-5E99-4D04-8A00-20530CC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722-9A46-4A82-839E-8611DDD8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EE4E-9D39-48BF-B72A-BB71ADCE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6554-32AD-4C6A-80FE-6D34D2B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75A9-AE37-44D2-BC99-1E1ACBF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32D9-5349-4284-A160-881B2D67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49CE-5862-4147-ACE4-71D04944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2261-5D62-4D3D-97EF-DBDEEAFC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414-FF30-4C44-87AE-EE41FC6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125-2068-4871-AD11-09AAC71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9878-9891-4CE5-84D2-B410469E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469-2D0D-4D1F-970E-D7438A9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B4B-1553-42B1-B91A-238D022C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F63E-2EAB-4C91-AEF3-443A8C2D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300-AB9D-4D2F-A0A3-26BC23C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18B-8D42-4AF8-8BF1-1F5D582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A0F-B142-443B-A9E0-0EEDE92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89A-4031-47DB-8436-03A7DE27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BED-F1B0-4B8E-B5C8-B0ED715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4E3-CE6C-45ED-97E9-D49CAE3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FBD-C093-47C6-AED2-EAF68D7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22AE-C41B-4A77-8396-1117130A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E484-0055-4735-B7AC-887B8C6E18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80880"/>
            <a:ext cx="5715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n understanding of the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awareness of how contrast is used in po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09680" y="2286000"/>
            <a:ext cx="6324840" cy="403848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3200" y="2362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: 1878, London, Wels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sted: 19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d: 1917 – Arras battle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43400" y="914400"/>
            <a:ext cx="3200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ograph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1585800" cy="2181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-2248200" y="30859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Edward Tho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As the Team’s Head Bras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This refers to the horse brasses on a team of horses, pulling a plough.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43400" y="2438280"/>
            <a:ext cx="4114800" cy="25146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438280"/>
            <a:ext cx="1371600" cy="25146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514600"/>
              <a:gd name="textAreaBottom" fmla="*/ 2447640 h 2514600"/>
            </a:gdLst>
            <a:ahLst/>
            <a:rect l="textAreaLeft" t="textAreaTop" r="textAreaRight" b="textAreaBottom"/>
            <a:pathLst>
              <a:path w="21600" h="39595">
                <a:moveTo>
                  <a:pt x="3600" y="0"/>
                </a:moveTo>
                <a:arcTo wR="3600" hR="3600" stAng="16200000" swAng="-5400000"/>
                <a:lnTo>
                  <a:pt x="0" y="35995"/>
                </a:lnTo>
                <a:arcTo wR="3600" hR="3600" stAng="10800000" swAng="-5400000"/>
                <a:lnTo>
                  <a:pt x="18000" y="395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514600"/>
            <a:ext cx="2133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5181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ly explain what happens in this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514600"/>
            <a:ext cx="4038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ps of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ield left uncultivated for a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yellow flowered w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arrow trench left by a pl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828800"/>
            <a:ext cx="495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ch up these words to their mean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1800" y="380880"/>
            <a:ext cx="1981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all the words with agricultural/natural associ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 all the parts of the poem that refer to the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whether or not this is a w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j0331339" descr=""/>
          <p:cNvPicPr/>
          <p:nvPr/>
        </p:nvPicPr>
        <p:blipFill>
          <a:blip r:embed="rId1"/>
          <a:stretch/>
        </p:blipFill>
        <p:spPr>
          <a:xfrm>
            <a:off x="7315200" y="1905120"/>
            <a:ext cx="1219320" cy="1206360"/>
          </a:xfrm>
          <a:prstGeom prst="rect">
            <a:avLst/>
          </a:prstGeom>
          <a:ln w="0">
            <a:noFill/>
          </a:ln>
        </p:spPr>
      </p:pic>
      <p:pic>
        <p:nvPicPr>
          <p:cNvPr id="122" name="j0149435" descr=""/>
          <p:cNvPicPr/>
          <p:nvPr/>
        </p:nvPicPr>
        <p:blipFill>
          <a:blip r:embed="rId2"/>
          <a:stretch/>
        </p:blipFill>
        <p:spPr>
          <a:xfrm>
            <a:off x="7848720" y="4343400"/>
            <a:ext cx="996840" cy="204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600200" y="68580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 is the message of this po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goes on during the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in France effect what happens in rural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tastrophic events of the war are reflected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19520" y="762120"/>
            <a:ext cx="1828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57400" y="609480"/>
            <a:ext cx="609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008360" y="5715000"/>
            <a:ext cx="74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 indent="4762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effectively does this poem convey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en’s conversation we find out that two important events have occurred on the sam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ignificance of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181480"/>
            <a:ext cx="723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hyme scheme of this po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you think the poet used this sch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ue: it’s a conver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685800"/>
            <a:ext cx="198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5120" y="6094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0:04:08Z</dcterms:created>
  <dc:creator>Mahoney</dc:creator>
  <dc:description/>
  <dc:language>en-US</dc:language>
  <cp:lastModifiedBy>mahonls</cp:lastModifiedBy>
  <dcterms:modified xsi:type="dcterms:W3CDTF">2006-07-06T08:48:11Z</dcterms:modified>
  <cp:revision>7</cp:revision>
  <dc:subject/>
  <dc:title>PowerPoint Presentation</dc:title>
</cp:coreProperties>
</file>