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E765-1C67-48AB-9620-9A25808A4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bbc.co.uk/history/war/wwone/wilfred_owen_gallery_01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527-B0D3-4BC2-9BC2-D8D0BB08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238-63E8-4126-B9AE-AF0A89FE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BB4-9F7F-4412-9745-C73FA341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D02-E700-4D02-85B4-5E36FD8A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A14-6E1D-4522-913F-2542D63A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1156-D47C-4BFB-9F63-BDFD19E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3A0C-42B0-4410-8C1D-293F66E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2CD-880F-4A77-A2E7-F4DA9D4C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0E2A-29C5-4A48-B7D1-D1C3DDE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87F-E197-4403-8E31-FE54075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C13-75F1-4F65-BD0F-01DE628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3FC-757B-4317-8E36-EBA74150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BD3-209E-46C3-87B9-D0B927E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472-C1E1-43E2-9415-A9A54CA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8026-6918-44E1-88E9-19F55493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F20F-67F4-43F3-AE2E-D350B5CA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7D6-D105-499E-9492-A1BDCBB1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E24-C52D-4E64-85B1-EAA1867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460-6584-4408-AD92-F7345941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CAC-908F-460E-9034-A2527831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6F6-8592-4498-AEBC-8DEE482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448-91AE-4621-8BBF-58AA2D4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EF8-F9D1-4052-8A84-C8A59BF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A16-C3C6-4D39-AC4B-5BC38E2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9A6B-D93C-45DD-A8AF-0EE24CF7D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C696-42BF-4EAA-89E4-196648669EE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contrast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438280"/>
            <a:ext cx="7086600" cy="381024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828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rn: 18 March 1893 – Oswestry, Shropsh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 Tutor -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lunteered: October 19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1917 – Diagnosed with Shell 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ctober 1918 - Earned Military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ed: 4 November 1918 – Ors Battle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2680" y="83808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482480" cy="2286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47840" y="278136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Wilfred Ow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Conten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k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 laid on a cof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pitche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 instrument used to give military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emonies which are insul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295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Match the words to their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every word or phrase with violent, warlike assoc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every example of onomatopoeia or any word referring to s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Highlight any similes or metaphors that appeal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plain how these phrases add to the overall effect of the po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oem, Owen asks what is done to mark the deaths of soldiers who die on the battle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Compile a table showing what Owen shows us is usually done to mark someone’s death and the wartime equiv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4343400"/>
          <a:ext cx="6705360" cy="187308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vilian Fu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dier’s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ing b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s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strous anger of the g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fle’s rapid r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rganising the Tex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oem is presented to you as one sta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you rather spli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two stanz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reasons for your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uc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Write a paragraph giving your view of the po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h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5:32Z</dcterms:created>
  <dc:creator>Mahoney</dc:creator>
  <dc:description/>
  <dc:language>en-US</dc:language>
  <cp:lastModifiedBy>Mahoney</cp:lastModifiedBy>
  <dcterms:modified xsi:type="dcterms:W3CDTF">2006-07-05T17:09:22Z</dcterms:modified>
  <cp:revision>5</cp:revision>
  <dc:subject/>
  <dc:title>PowerPoint Presentation</dc:title>
</cp:coreProperties>
</file>