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CD3-F824-4240-9A7C-B29BB53C7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bbc.co.uk/history/war/wwone/wilfred_owen_gallery_01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F85-159F-4FF2-B3A7-85380A48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424-41AF-48B2-AC33-C328350F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441-D908-487C-80F6-5CBA8CE4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E74-927D-4A0C-B7FE-E8D5A55F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DF21-C9C5-42B5-AE97-E45806D6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B83-DE8D-4E5E-8CAE-C3A60B36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E1D5-8A9B-46A2-BBB9-4DDB7CF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328-29E1-4378-A680-26D03B7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971-D69A-4F95-A3C0-FC7AA133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973F-E4E2-4309-AA98-CAD066F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32E1-EE01-45BB-A445-883BD677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451-2B9D-4D5B-A82E-D2F80EE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0609-9F8E-4EDA-9AE1-1389ED0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48A1-4AEF-46BA-89F7-B24E823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DCA8-FA3D-42E1-A6BF-A3432B6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076B-5F4E-456F-9674-7D9901A7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B17-81C6-46D0-AB85-B79F50F8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C3E-7696-40C3-B94C-1973ECE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05D-044D-4BC0-8F63-03D9589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714-B91C-497C-930E-86DC337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CB9-9610-45AA-982B-33D491D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55C-8558-4048-BE44-0AC2B0B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8F4-5DD4-40E3-9ABD-2A31172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65D-3DE7-40BD-A4AD-A4917EC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4D3-976C-4AFD-A20D-07ACC3F7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9A7-F0DB-4E30-87D7-93872339C6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contrast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438280"/>
            <a:ext cx="7086600" cy="381024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828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rn: 18 March 1893 – Oswestry, Shropsh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 Tutor -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nteered: October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917 – Diagnosed with Shell 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ctober 1918 - Earned Military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ed: 4 November 1918 – Ors Battle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2680" y="83808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482480" cy="228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47840" y="278136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Wilfred Ow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onten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k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 laid on a cof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pitche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 instrument used to give military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emonies which are insul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295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Match the words to their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every word or phrase with violent, warlike assoc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every example of onomatopoeia or any word referring to s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any similes or metaphors that appeal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plain how these phrases add to the overall effect of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oem, Owen asks what is done to mark the deaths of soldiers who die on the battle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Compile a table showing what Owen shows us is usually done to mark someone’s death and the wartime equiv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4343400"/>
          <a:ext cx="6705360" cy="187308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vilian Fu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dier’s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ing b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s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strous anger of the g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fle’s rapid r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rganising the Tex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oem is presented to you as one sta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you rather spli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two stanz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reasons for your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uc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Write a paragraph giving your view of the po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5:32Z</dcterms:created>
  <dc:creator>Mahoney</dc:creator>
  <dc:description/>
  <dc:language>en-US</dc:language>
  <cp:lastModifiedBy>Mahoney</cp:lastModifiedBy>
  <dcterms:modified xsi:type="dcterms:W3CDTF">2006-07-05T17:09:22Z</dcterms:modified>
  <cp:revision>5</cp:revision>
  <dc:subject/>
  <dc:title>PowerPoint Presentation</dc:title>
</cp:coreProperties>
</file>