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7D9-B7FB-460C-8166-5DE8360F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A06E-A437-4AB6-BA14-0EB93E91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AA07-0D53-409A-BEBC-ACED4B29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8CD7-FC80-40D0-90CA-2A67B716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91D3-20A7-47B8-BCB1-DFFF65C9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AC52-7880-41CA-9206-FF587E02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04AC-FCDF-4731-A65C-63418FA9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5603-FB2D-4F71-AA53-4055A0DA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0339-A2BD-4418-B39D-6CF76640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E58A-2CCD-4623-91D5-8D958275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048A-B4D4-4CC2-9B4D-E7AAE4C2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9AC2-C491-4DAB-9DD4-7E9BBDC0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C9EF-7324-4379-A7E5-E7DD74D6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AE43-08BB-4FB8-942F-FF81415C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9F86-99D4-40A7-94E8-4E8F8FEE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2C85-4B8F-4592-8D5E-7D1EB4B8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1E0C-55FE-4A0A-85AC-BA3A1E9A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2566-475E-4CDD-8038-DA1D30C9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E52C-A0D7-4DF8-8524-89BCFA09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7025-4124-4778-806E-67E66924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301F-59A2-4BE1-AF81-80126B30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6C9-DB37-4D55-B18A-47145392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1762-3FC6-4206-B841-732DF7B4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154E-B51E-44CA-BDF6-70B8A64C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7EA3-8100-46B4-9A85-DAFE281EDC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A98B-26C3-43E5-ABC5-446BBE0AA884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cu.ox.ac.uk/jtap/" TargetMode="External"/><Relationship Id="rId2" Type="http://schemas.openxmlformats.org/officeDocument/2006/relationships/hyperlink" Target="http://www.hcu.ox.ac.uk/jtap/" TargetMode="External"/><Relationship Id="rId3" Type="http://schemas.openxmlformats.org/officeDocument/2006/relationships/hyperlink" Target="http://www.hcu.ox.ac.uk/jtap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7680" y="509760"/>
            <a:ext cx="859608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ilfred 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O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wen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 M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ultimedia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 D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igital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 A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rchive</a:t>
            </a:r>
            <a:endParaRPr b="0" lang="en-US" sz="2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Locate this archive on the World Wide We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ype ‘womda’ into a search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Or type </a:t>
            </a:r>
            <a:r>
              <a:rPr b="0" lang="en-GB" sz="2800" spc="-1" strike="noStrike" u="sng">
                <a:solidFill>
                  <a:srgbClr val="003300"/>
                </a:solidFill>
                <a:uFillTx/>
                <a:latin typeface="Arial Unicode MS"/>
                <a:hlinkClick r:id="rId1"/>
              </a:rPr>
              <a:t>http://</a:t>
            </a:r>
            <a:r>
              <a:rPr b="0" lang="en-GB" sz="2800" spc="-1" strike="noStrike" u="sng">
                <a:solidFill>
                  <a:srgbClr val="003300"/>
                </a:solidFill>
                <a:uFillTx/>
                <a:latin typeface="Arial Unicode MS"/>
                <a:hlinkClick r:id="rId2"/>
              </a:rPr>
              <a:t>www.hcu.ox.ac.uk/jtap</a:t>
            </a:r>
            <a:r>
              <a:rPr b="0" lang="en-GB" sz="2800" spc="-1" strike="noStrike" u="sng">
                <a:solidFill>
                  <a:srgbClr val="003300"/>
                </a:solidFill>
                <a:uFillTx/>
                <a:latin typeface="Arial Unicode MS"/>
                <a:hlinkClick r:id="rId3"/>
              </a:rPr>
              <a:t>/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to the browser’s address b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7680" y="509760"/>
            <a:ext cx="859608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ilfred 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O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wen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 M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ultimedia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 D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igital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 A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rchive</a:t>
            </a:r>
            <a:endParaRPr b="0" lang="en-US" sz="2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hoose the ‘Use the Path Creation Scheme’ o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hoose ‘GCSE War Un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ith a pen and paper at your si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llow each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mplete all tasks suggested in the notes for each sl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7680" y="509760"/>
            <a:ext cx="859608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ilfred 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O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wen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 M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ultimedia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 D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igital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 A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rchive</a:t>
            </a:r>
            <a:endParaRPr b="0" lang="en-US" sz="2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Tas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repare a presentation to the whole class on the poem ‘Dulce et Decorum Est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Use the path creation scheme ‘with guidance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Only include audio and video if supported by the appropriat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repare AT LEAST 6 sl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7680" y="509760"/>
            <a:ext cx="859608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ilfred 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O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wen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 M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ultimedia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 D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igital</a:t>
            </a:r>
            <a:r>
              <a:rPr b="0" lang="en-US" sz="5000" spc="-1" strike="noStrike">
                <a:solidFill>
                  <a:srgbClr val="996600"/>
                </a:solidFill>
                <a:latin typeface="Times New Roman"/>
              </a:rPr>
              <a:t> A</a:t>
            </a:r>
            <a:r>
              <a:rPr b="0" lang="en-US" sz="2600" spc="-1" strike="noStrike">
                <a:solidFill>
                  <a:srgbClr val="996600"/>
                </a:solidFill>
                <a:latin typeface="Times New Roman"/>
              </a:rPr>
              <a:t>rchive</a:t>
            </a:r>
            <a:endParaRPr b="0" lang="en-US" sz="2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Practice your presentations carefu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void simply reading from the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ry to include a variety of 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cus on a single chain in the po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.e. </a:t>
            </a: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Heroism, </a:t>
            </a:r>
            <a:r>
              <a:rPr b="0" lang="en-US" sz="2400" spc="-1" strike="noStrike">
                <a:solidFill>
                  <a:srgbClr val="3333ff"/>
                </a:solidFill>
                <a:latin typeface="Arial Unicode MS"/>
              </a:rPr>
              <a:t>Death, </a:t>
            </a:r>
            <a:r>
              <a:rPr b="0" lang="en-US" sz="2400" spc="-1" strike="noStrike">
                <a:solidFill>
                  <a:srgbClr val="009900"/>
                </a:solidFill>
                <a:latin typeface="Arial Unicode MS"/>
              </a:rPr>
              <a:t>Futility and </a:t>
            </a:r>
            <a:r>
              <a:rPr b="0" lang="en-US" sz="2400" spc="-1" strike="noStrike">
                <a:solidFill>
                  <a:srgbClr val="727de0"/>
                </a:solidFill>
                <a:latin typeface="Arial Unicode MS"/>
              </a:rPr>
              <a:t>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xtension Tas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Using a suitable search eng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Find the text for another of Owen’s po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Highlight and drag the words of the poem, shuffling the order to make a new piece of wri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You might need to add or delete a few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6:32:08Z</dcterms:created>
  <dc:creator>Mahoney</dc:creator>
  <dc:description/>
  <dc:language>en-US</dc:language>
  <cp:lastModifiedBy>Welsh Joint Education Committee</cp:lastModifiedBy>
  <dcterms:modified xsi:type="dcterms:W3CDTF">2006-08-18T11:36:59Z</dcterms:modified>
  <cp:revision>4</cp:revision>
  <dc:subject/>
  <dc:title>Wilfred Owen Multimedia Digital Archive</dc:title>
</cp:coreProperties>
</file>