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953-4C52-44BE-94AC-2375113E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47B-243B-4738-A2D9-D71A48A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576-3660-4309-BFC9-6A7B490F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273-D9C0-4FEB-BF72-A1842B89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9859-82A5-4F62-BCED-69731F1D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2E50-D19F-4A5B-9765-5D3213D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1A59-B8A8-4A89-8807-7F932718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ACF8-0E44-4C4F-AA9D-7E537650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A3D8-7E76-4129-A1D6-9EE6F699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D5D-9745-43B8-B09F-C7A3323A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664-D31A-4F7F-8A02-5329465C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7A1-847E-465A-9A0F-E8627487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C47A-EAB0-4915-8124-F7CAE5EC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0AE6-13A5-4E1E-A6D1-48061BE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4EE2-35C1-4766-9996-6DA4610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0DAC-EFB5-42BD-B2A8-45A5F68B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DCCD-7BA5-40AF-B0C5-D19B1760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F0F-86DF-43E3-93F0-B73DB460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403-18EF-4A6D-80AD-D4B19D3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6C7-2C39-4227-A257-8B4DA7F6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6A3-D02F-433D-90AB-FB1FEFC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F21-5594-43AC-B432-2689B34B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E38-8110-410C-A373-C7BB1B3A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2C3-581E-4A93-85C3-AA53D69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BE06-D987-498F-A44C-6CF4C40A9E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C04-A9F4-400E-924C-DB12B1DC2F49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cu.ox.ac.uk/jtap/" TargetMode="External"/><Relationship Id="rId2" Type="http://schemas.openxmlformats.org/officeDocument/2006/relationships/hyperlink" Target="http://www.hcu.ox.ac.uk/jtap/" TargetMode="External"/><Relationship Id="rId3" Type="http://schemas.openxmlformats.org/officeDocument/2006/relationships/hyperlink" Target="http://www.hcu.ox.ac.uk/jtap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ocate this archive on the World Wid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ype ‘womda’ into a search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r type </a:t>
            </a:r>
            <a:r>
              <a:rPr b="0" lang="en-GB" sz="2800" spc="-1" strike="noStrike" u="sng">
                <a:solidFill>
                  <a:srgbClr val="003300"/>
                </a:solidFill>
                <a:uFillTx/>
                <a:latin typeface="Arial Unicode MS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3300"/>
                </a:solidFill>
                <a:uFillTx/>
                <a:latin typeface="Arial Unicode MS"/>
                <a:hlinkClick r:id="rId2"/>
              </a:rPr>
              <a:t>www.hcu.ox.ac.uk/jtap</a:t>
            </a:r>
            <a:r>
              <a:rPr b="0" lang="en-GB" sz="2800" spc="-1" strike="noStrike" u="sng">
                <a:solidFill>
                  <a:srgbClr val="003300"/>
                </a:solidFill>
                <a:uFillTx/>
                <a:latin typeface="Arial Unicode MS"/>
                <a:hlinkClick r:id="rId3"/>
              </a:rPr>
              <a:t>/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to the browser’s address 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the ‘Use the Path Creation Scheme’ o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‘GCSE War Un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ith a pen and paper at your s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llow each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plete all tasks suggested in the notes for each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a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epare a presentation to the whole class on the poem ‘Dulce et Decorum Est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Use the path creation scheme ‘with guidance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Only include audio and video if supported by the appropriat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repare AT LEAST 6 sl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actice your presentations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void simply reading from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y to include a variety of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cus on a single chain in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.e.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Heroism, </a:t>
            </a:r>
            <a:r>
              <a:rPr b="0" lang="en-US" sz="2400" spc="-1" strike="noStrike">
                <a:solidFill>
                  <a:srgbClr val="3333ff"/>
                </a:solidFill>
                <a:latin typeface="Arial Unicode MS"/>
              </a:rPr>
              <a:t>Death, 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Futility and </a:t>
            </a:r>
            <a:r>
              <a:rPr b="0" lang="en-US" sz="24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xtension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Using a suitable search eng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ind the text for another of Owen’s po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ighlight and drag the words of the poem, shuffling the order to make a new piece of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You might need to add or delete a few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6:32:08Z</dcterms:created>
  <dc:creator>Mahoney</dc:creator>
  <dc:description/>
  <dc:language>en-US</dc:language>
  <cp:lastModifiedBy>Welsh Joint Education Committee</cp:lastModifiedBy>
  <dcterms:modified xsi:type="dcterms:W3CDTF">2006-08-18T11:36:59Z</dcterms:modified>
  <cp:revision>4</cp:revision>
  <dc:subject/>
  <dc:title>Wilfred Owen Multimedia Digital Archive</dc:title>
</cp:coreProperties>
</file>