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685A-06C4-4A50-AAAB-3E043364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3F54-5164-4E10-AB7D-1E7BECEC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4F0B-6AB5-4296-A931-9CD64421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A1DB-1F08-4481-A585-948DF24D7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6C7F-58C9-40E6-A6F8-8C00A763F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D678-9942-41EA-B92D-B75EF196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1F96-27C2-4029-B9D4-F3697F8C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FC32-04B4-4476-92AF-7D456136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B69B-6233-42F2-8324-37A1D25A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4B0A-573B-4009-A1AF-F75F2CA4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BD4D-B13D-4A0F-A602-7B1A4380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1AA0-CBBE-41C7-83C5-F03141D2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C2C4-DF89-49EF-B5E8-F8E71E80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8396-4A76-4FD4-A546-DA6C124C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7D1F-B2CA-401A-9011-40469119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CA80-7BF0-4158-8FB3-CE2CFB16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2E31-2E16-4A12-84D3-39E7F91D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7B43-F57A-49AD-924F-B05B441E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EE82-BE9D-4B34-907C-3A0B7499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46C5-1BCE-4A54-857A-2059DD67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F6EB-3811-464B-BFCB-E5E12391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93C4-6AA7-4A90-A680-A0225EB3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6A6E-A72C-477C-81A1-8244A540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D830-6EEB-468D-BB91-B45EDB8B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8FC8-6486-45CC-AF1F-77737ABE2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9773-42D2-415D-84A2-FD80F85C114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59280" y="2252160"/>
            <a:ext cx="6083280" cy="178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86950"/>
                </a:solidFill>
                <a:latin typeface="Arial Unicode MS"/>
              </a:rPr>
              <a:t>Dulce et Decorum Es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181120" y="4038480"/>
            <a:ext cx="396108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Arial Unicode MS"/>
              </a:rPr>
              <a:t>Wilfred Owen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 Unicode MS"/>
              </a:rPr>
              <a:t>Annotati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When you have completed your ‘grappling’ you need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rint out your finished co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nnotate the copy, explaining your choices and add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 Unicode MS"/>
              </a:rPr>
              <a:t>Chain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ake a printed copy of the entire po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Or open a copy in ‘Word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You need to prepare a colour-coded version of the poem for displaying in the classro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 Unicode MS"/>
              </a:rPr>
              <a:t>Chain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Use the following colour codes to highlight any words that you believe are linked to the relevant abstract no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Hero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Unicode MS"/>
              </a:rPr>
              <a:t>De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 Unicode MS"/>
              </a:rPr>
              <a:t>F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727de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de0"/>
                </a:solidFill>
                <a:latin typeface="Arial Unicode MS"/>
              </a:rPr>
              <a:t>Re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1905120"/>
            <a:ext cx="7620120" cy="1447560"/>
          </a:xfrm>
          <a:prstGeom prst="rect">
            <a:avLst/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hoose one of these titles and write a paragraph explaining what you think the poem tells us about it: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Hero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Unicode MS"/>
              </a:rPr>
              <a:t>De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 Unicode MS"/>
              </a:rPr>
              <a:t>F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727de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de0"/>
                </a:solidFill>
                <a:latin typeface="Arial Unicode MS"/>
              </a:rPr>
              <a:t>Re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 Unicode MS"/>
              </a:rPr>
              <a:t>Writing Task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71600" y="1905120"/>
            <a:ext cx="7620120" cy="1447560"/>
          </a:xfrm>
          <a:prstGeom prst="rect">
            <a:avLst/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You have 15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Use proof from the poem to support your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Hero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Unicode MS"/>
              </a:rPr>
              <a:t>De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 Unicode MS"/>
              </a:rPr>
              <a:t>F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727de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de0"/>
                </a:solidFill>
                <a:latin typeface="Arial Unicode MS"/>
              </a:rPr>
              <a:t>Re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 Unicode MS"/>
              </a:rPr>
              <a:t>Writing Task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 Unicode MS"/>
              </a:rPr>
              <a:t>Word Associati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n pairs, with only one of you facing the screen, recite the words on the next slide and make a note of your partner’s response. This response should be instant and instinc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 Unicode MS"/>
              </a:rPr>
              <a:t>Words – Set 1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Re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Ba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De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Gl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 Unicode MS"/>
              </a:rPr>
              <a:t>Now Swap Seat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t is now your partner’s turn to suggest the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 Unicode MS"/>
              </a:rPr>
              <a:t>Words – Set 2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onfli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on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utility (or pointlessne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 Unicode MS"/>
              </a:rPr>
              <a:t>Report to Clas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Did any of the responses surprise you?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Were any words easier to respond to than others?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 Unicode MS"/>
              </a:rPr>
              <a:t>Sequencing 1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You should now have a copy of a stanza from the poem in front of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t is out of sequ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t is up to you to decide on the best order for these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 Unicode MS"/>
              </a:rPr>
              <a:t>Sequencing 2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You should now have a copy of the entire poem in front of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t is out of sequ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t is up to you to decide on the best order for these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 Unicode MS"/>
              </a:rPr>
              <a:t>Stanza 1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If you have the facilities, you now need to grapple with stanza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This invol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Opening ‘Word’, ‘New’ and ‘Dulce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Choosing words from the drop-down men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yping text into greyed ga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11:16:25Z</dcterms:created>
  <dc:creator>mahonls</dc:creator>
  <dc:description/>
  <dc:language>en-US</dc:language>
  <cp:lastModifiedBy>Welsh Joint Education Committee</cp:lastModifiedBy>
  <dcterms:modified xsi:type="dcterms:W3CDTF">2006-08-18T11:41:04Z</dcterms:modified>
  <cp:revision>4</cp:revision>
  <dc:subject/>
  <dc:title>Dulce et Decorum Est</dc:title>
</cp:coreProperties>
</file>