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0CA-7701-4689-9151-011F1DC7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D31-3397-414C-B82D-79D40B5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5EF-602A-4D8E-A40E-E1D09306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5E3-A1E0-4DDA-9E48-C73DA4F2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29E0-E93D-46AF-8D08-FD6C9E61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10E-B384-42E7-BB81-D814A8B7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C683-6A00-4D30-B4DF-5246FC7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ABEB-27BF-45BD-85AF-1B0504A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2023-7901-43E3-A136-F40C721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675F-7DDC-4669-9A9A-1C49BCF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2B2F-1B68-4191-9B3E-479C98B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5DE-FE25-4F59-899D-75650516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59A-3297-4DF5-9BBA-1C4155C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8C5F-4E5C-4A07-8A61-A36A67AB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1399-F451-4B2D-B91E-B547A7C2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30FB-19CD-4747-BB35-D58A6B1C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E04-ECB5-498E-B7EB-16FAD62D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FCB-3040-4CAA-A44A-94B203FE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311-4448-4422-BE8A-6E3B3978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7CF-448B-47A7-BA7E-AD0C0CB6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22A-6F4F-4B43-99D3-CFE6A99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555-0661-4E89-BE1C-211CD9F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63D-DC7F-43D9-B148-9F9CC0C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5F4-BD76-4F38-A0D6-D2CFA1B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7EB-8C18-4A3F-97D7-748D126C8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483-4FE2-469D-B864-0B2B49191C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59280" y="2252160"/>
            <a:ext cx="608328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86950"/>
                </a:solidFill>
                <a:latin typeface="Arial Unicode MS"/>
              </a:rPr>
              <a:t>Dulce et Decorum Es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480"/>
            <a:ext cx="39610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Arial Unicode MS"/>
              </a:rPr>
              <a:t>Wilfred Owe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Annot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en you have completed your ‘grappling’ you ne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int out your finished co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notate the copy, explaining your choices and ad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Chai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ake a printed copy of the entir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r open a copy in ‘Word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need to prepare a colour-coded version of the poem for displaying in the class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Chai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e the following colour codes to highlight any words that you believe are linked to the relevant abstract no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ero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F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27de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1905120"/>
            <a:ext cx="7620120" cy="1447560"/>
          </a:xfrm>
          <a:prstGeom prst="rect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hoose one of these titles and write a paragraph explaining what you think the poem tells us about it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ero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F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27de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riting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905120"/>
            <a:ext cx="7620120" cy="1447560"/>
          </a:xfrm>
          <a:prstGeom prst="rect">
            <a:avLst/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 have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 proof from the poem to support you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Hero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Unicode MS"/>
              </a:rPr>
              <a:t>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 Unicode MS"/>
              </a:rPr>
              <a:t>F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27de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de0"/>
                </a:solidFill>
                <a:latin typeface="Arial Unicode MS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riting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ord Associ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pairs, with only one of you facing the screen, recite the words on the next slide and make a note of your partner’s response. This response should be instant and instin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ords – Set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l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Now Swap Sea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now your partner’s turn to suggest the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Words – Set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n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utility (or pointless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Report to Cla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d any of the responses surprise you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re any words easier to respond to than others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Sequencing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w have a copy of a stanza from the poem in front of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out of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up to you to decide on the best order for thes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Sequencing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ou should now have a copy of the entire poem in front of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out of sequ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t is up to you to decide on the best order for thes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 Unicode MS"/>
              </a:rPr>
              <a:t>Stanza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If you have the facilities, you now need to grapple with stanz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his 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pening ‘Word’, ‘New’ and ‘Dulce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hoosing words from the drop-down men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yping text into greyed g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1:16:25Z</dcterms:created>
  <dc:creator>mahonls</dc:creator>
  <dc:description/>
  <dc:language>en-US</dc:language>
  <cp:lastModifiedBy>Welsh Joint Education Committee</cp:lastModifiedBy>
  <dcterms:modified xsi:type="dcterms:W3CDTF">2006-08-18T11:41:04Z</dcterms:modified>
  <cp:revision>4</cp:revision>
  <dc:subject/>
  <dc:title>Dulce et Decorum Est</dc:title>
</cp:coreProperties>
</file>