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A57-803E-4874-B640-59B3C18E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A87-F362-46B8-B444-D3EB47CE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F7D-C96A-4566-BD8A-609BF49E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665-CF50-41CA-AEE6-62E2198A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E94-4CC8-4B5D-8D16-53A832B7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28A-16D5-4C5A-BF78-1CDD0CAD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02E-6B34-43E0-9A54-10F33EC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A49-BD06-4989-94D1-850BBD32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2BE-C4E8-416A-A921-83248C3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7B9-4EEA-42DA-ABE8-3773A8C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DF1-4EE9-47A9-A774-56AB1E6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386-1625-4741-8077-133E42E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2A0-0DCA-4C36-978E-3A145242F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C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863640" cy="146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63640" y="1628640"/>
            <a:ext cx="561672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297180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5320" y="4191120"/>
            <a:ext cx="261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260280"/>
            <a:ext cx="68407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82880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520" y="281952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95480" y="3886200"/>
            <a:ext cx="505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14800" y="4952880"/>
            <a:ext cx="5047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846000" cy="102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00800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32000" y="333360"/>
            <a:ext cx="662472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700280"/>
            <a:ext cx="8713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Task 1 - Become an expert in your partner's poem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276640"/>
            <a:ext cx="6858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airs, choose a poem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your partner what happens in your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the poet feels about what happens in the poem. Be specific and use examples from the poem to support your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67640" y="2492280"/>
            <a:ext cx="84600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58136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11280" y="6021360"/>
            <a:ext cx="4897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Tip: Make note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6021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4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56360" y="5950080"/>
            <a:ext cx="5619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6920" y="404640"/>
            <a:ext cx="7561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057400"/>
            <a:ext cx="241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sk 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06864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at least four words or phrases that had an effect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one, explain to your partner what the effect was and how the writer achieved that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1008000" cy="952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6019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7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14800" y="5943600"/>
            <a:ext cx="56196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333360"/>
            <a:ext cx="74901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2060640"/>
            <a:ext cx="26323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sk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35268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y you think this is an effective piece of writing. You are welcome to repeat any previous point if you think it is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5867280"/>
            <a:ext cx="5619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297180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05320" y="4191120"/>
            <a:ext cx="261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0060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62320" y="685800"/>
            <a:ext cx="4114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182880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76520" y="2819520"/>
            <a:ext cx="5428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3886200"/>
            <a:ext cx="505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14800" y="4952880"/>
            <a:ext cx="5047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222560" cy="115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38480" y="1905120"/>
            <a:ext cx="846360" cy="102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72400" y="5181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57800" y="27432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58920" y="2421000"/>
            <a:ext cx="3848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35280" y="476280"/>
            <a:ext cx="5543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221000"/>
            <a:ext cx="8569080" cy="1068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 the story of the poem in your own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846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8000" y="476280"/>
            <a:ext cx="50896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9640" y="1989000"/>
            <a:ext cx="38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3280" y="404640"/>
            <a:ext cx="619308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3284640"/>
            <a:ext cx="8209080" cy="1595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the attitude of the poet towards the subject of the poe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do they feel about the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551664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mosp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3132000" y="5661000"/>
            <a:ext cx="532620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poem is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30064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334120"/>
            <a:ext cx="533520" cy="1218960"/>
          </a:xfrm>
          <a:custGeom>
            <a:avLst/>
            <a:gdLst>
              <a:gd name="textAreaLeft" fmla="*/ 0 w 533520"/>
              <a:gd name="textAreaRight" fmla="*/ 192600 w 5335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19280" y="333360"/>
            <a:ext cx="56894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26920" y="2060640"/>
            <a:ext cx="35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19280" y="333360"/>
            <a:ext cx="576108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3645000"/>
            <a:ext cx="8569080" cy="947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and explain the effect of the techniques used by the po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30064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5334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5157720"/>
            <a:ext cx="7490160" cy="1373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just mean choosing the phrases that you liked and explaining what you liked about th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22220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71600" y="1981080"/>
            <a:ext cx="203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0" y="2895480"/>
            <a:ext cx="2019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ttitu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33920" y="4038480"/>
            <a:ext cx="2619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echn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4120" y="5181480"/>
            <a:ext cx="21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6000" y="333360"/>
            <a:ext cx="70563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ahoma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191628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ucc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03280" y="404640"/>
            <a:ext cx="669780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ackling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357720"/>
            <a:ext cx="7705800" cy="116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successful is the poem overa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your informed opi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4941720"/>
            <a:ext cx="7705800" cy="1169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ell d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rk together?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03:51Z</dcterms:created>
  <dc:creator>mahonls</dc:creator>
  <dc:description/>
  <dc:language>en-US</dc:language>
  <cp:lastModifiedBy>Welsh Joint Education Committee</cp:lastModifiedBy>
  <dcterms:modified xsi:type="dcterms:W3CDTF">2006-07-19T10:17:19Z</dcterms:modified>
  <cp:revision>6</cp:revision>
  <dc:subject/>
  <dc:title>PowerPoint Presentation</dc:title>
</cp:coreProperties>
</file>