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6.jpeg" ContentType="image/jpeg"/>
  <Override PartName="/ppt/media/image5.gif" ContentType="image/gif"/>
  <Override PartName="/ppt/media/image7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9326-9490-4DD7-AD8A-1456B8CF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84CD-40AF-46C1-A169-B9B4283F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9758-95A3-4DBB-8E7B-6BAFE51A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3AE5-8999-457C-8B70-771A09BF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E3F-1589-4A15-A578-08C3BC31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44AD-E004-4E2F-8CEF-CFA8E8A2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FB6-18BB-40D4-BEAC-D8E19FDE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677E-64B4-4C08-AB20-B460E1F6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D7B3-0839-4EB3-88F0-7717D683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D769-E30B-4B07-BE3D-3CE2A5D1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170D-4EF7-4AA0-B072-76093193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41E6-5337-46BE-A121-8D21349E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9270-6751-4864-8501-D2C6EFDD1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sing C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934320" y="4724280"/>
            <a:ext cx="863640" cy="1467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763640" y="1628640"/>
            <a:ext cx="5616720" cy="17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Tackling Po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371600" y="1981080"/>
            <a:ext cx="20383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o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286000" y="2971800"/>
            <a:ext cx="2019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titu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05320" y="4191120"/>
            <a:ext cx="2619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echniqu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800600" y="5181480"/>
            <a:ext cx="21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ucc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16000" y="260280"/>
            <a:ext cx="684072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Tackling Po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2120" y="1828800"/>
            <a:ext cx="542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676520" y="2819520"/>
            <a:ext cx="542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895480" y="3886200"/>
            <a:ext cx="5050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114800" y="4952880"/>
            <a:ext cx="50472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846000" cy="1028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1008000" cy="952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596360" y="5229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9367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332000" y="333360"/>
            <a:ext cx="6624720" cy="13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Tackling Po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79280" y="1700280"/>
            <a:ext cx="8713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Task 1 - Become an expert in your partner's poem.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2276640"/>
            <a:ext cx="68580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airs, choose a poem 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your partner what happens in your po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what the poet feels about what happens in the poem. Be specific and use examples from the poem to support your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67640" y="2492280"/>
            <a:ext cx="846000" cy="1028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596360" y="4581360"/>
            <a:ext cx="936360" cy="936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11280" y="6021360"/>
            <a:ext cx="48974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Tip: Make note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6804000" y="6021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4 min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6156360" y="5950080"/>
            <a:ext cx="56196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26920" y="404640"/>
            <a:ext cx="7561440" cy="12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Tackling Po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19320" y="2057400"/>
            <a:ext cx="2415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ask 2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3068640"/>
            <a:ext cx="8280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at least four words or phrases that had an effect on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one, explain to your partner what the effect was and how the writer achieved that eff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12000" y="1916280"/>
            <a:ext cx="1008000" cy="952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800600" y="6019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7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14800" y="5943600"/>
            <a:ext cx="56196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26920" y="333360"/>
            <a:ext cx="7490160" cy="13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Tackling Po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2060640"/>
            <a:ext cx="26323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ask 3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335268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why you think this is an effective piece of writing. You are welcome to repeat any previous point if you think it is relev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580000" y="21337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257800" y="6019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4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0" y="5867280"/>
            <a:ext cx="56196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371600" y="1981080"/>
            <a:ext cx="20383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o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0" y="2971800"/>
            <a:ext cx="2019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titu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05320" y="4191120"/>
            <a:ext cx="2619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echniqu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800600" y="5181480"/>
            <a:ext cx="21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ucc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362320" y="685800"/>
            <a:ext cx="411480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Tackling Po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62120" y="1828800"/>
            <a:ext cx="542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676520" y="2819520"/>
            <a:ext cx="542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95480" y="3886200"/>
            <a:ext cx="5050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114800" y="4952880"/>
            <a:ext cx="50472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010280" y="3733920"/>
            <a:ext cx="1222560" cy="1154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038480" y="1905120"/>
            <a:ext cx="846360" cy="1028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772400" y="51814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257800" y="27432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258920" y="2421000"/>
            <a:ext cx="384804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o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835280" y="476280"/>
            <a:ext cx="55432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Tackling Po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4221000"/>
            <a:ext cx="8569080" cy="1068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l the story of the poem in your own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467480" y="5105520"/>
            <a:ext cx="8463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371600" y="1981080"/>
            <a:ext cx="20383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o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0" y="2895480"/>
            <a:ext cx="2019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ttitu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733920" y="4038480"/>
            <a:ext cx="2619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echniqu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34120" y="5181480"/>
            <a:ext cx="21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ucc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908000" y="476280"/>
            <a:ext cx="50896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Tackling Po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39640" y="1989000"/>
            <a:ext cx="3818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ttitu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03280" y="404640"/>
            <a:ext cx="6193080" cy="12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Tackling Po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3284640"/>
            <a:ext cx="8209080" cy="1595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is the attitude of the poet towards the subject of the poem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do they feel about the po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4360" y="5516640"/>
            <a:ext cx="2019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tmosp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3132000" y="5661000"/>
            <a:ext cx="5326200" cy="947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poem is more descrip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530064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58200" y="5334120"/>
            <a:ext cx="533520" cy="1218960"/>
          </a:xfrm>
          <a:custGeom>
            <a:avLst/>
            <a:gdLst>
              <a:gd name="textAreaLeft" fmla="*/ 0 w 533520"/>
              <a:gd name="textAreaRight" fmla="*/ 192600 w 5335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020000" y="184464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371600" y="1981080"/>
            <a:ext cx="20383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o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86000" y="2895480"/>
            <a:ext cx="2019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ttitu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733920" y="4038480"/>
            <a:ext cx="2619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echniqu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34120" y="5181480"/>
            <a:ext cx="21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ucc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619280" y="333360"/>
            <a:ext cx="5689440" cy="13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Tackling Po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826920" y="2060640"/>
            <a:ext cx="352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echniqu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19280" y="333360"/>
            <a:ext cx="5761080" cy="13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Tackling Po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3645000"/>
            <a:ext cx="8569080" cy="947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and explain the effect of the techniques used by the po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5300640"/>
            <a:ext cx="304560" cy="1066680"/>
          </a:xfrm>
          <a:custGeom>
            <a:avLst/>
            <a:gdLst>
              <a:gd name="textAreaLeft" fmla="*/ 194760 w 304560"/>
              <a:gd name="textAreaRight" fmla="*/ 304920 w 3045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534520" y="533412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5157720"/>
            <a:ext cx="7490160" cy="1373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just mean choosing the phrases that you liked and explaining what you liked about them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659640" y="1773360"/>
            <a:ext cx="122220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371600" y="1981080"/>
            <a:ext cx="20383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o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0" y="2895480"/>
            <a:ext cx="2019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ttitu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733920" y="4038480"/>
            <a:ext cx="2619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echniqu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34120" y="5181480"/>
            <a:ext cx="21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ucc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116000" y="333360"/>
            <a:ext cx="7056360" cy="13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Tackling Po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116000" y="1916280"/>
            <a:ext cx="316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ucc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403280" y="404640"/>
            <a:ext cx="6697800" cy="12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ackling Po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3357720"/>
            <a:ext cx="7705800" cy="1169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successful is the poem overall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 your informed opin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4941720"/>
            <a:ext cx="7705800" cy="1169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well do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ork together?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0:03:51Z</dcterms:created>
  <dc:creator>mahonls</dc:creator>
  <dc:description/>
  <dc:language>en-US</dc:language>
  <cp:lastModifiedBy>Welsh Joint Education Committee</cp:lastModifiedBy>
  <dcterms:modified xsi:type="dcterms:W3CDTF">2006-07-19T10:17:19Z</dcterms:modified>
  <cp:revision>6</cp:revision>
  <dc:subject/>
  <dc:title>PowerPoint Presentation</dc:title>
</cp:coreProperties>
</file>